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ACE2-3DBF-4632-B763-0DBE97DF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AB56-964D-4EA7-A0A0-6ABC302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E359-D7D4-492C-B23B-4A4EE4A4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490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34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490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34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B63F-0401-4DE8-9172-E74D2F35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04760" y="3805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CB2D-3627-451E-8E84-C818512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490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34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490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34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5939-ED96-483F-888C-AA8AF043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BA65-AE0C-45BA-B1F6-C0987BDA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0009-EB7D-4780-B72A-8BE176C7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3805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2071-06A9-42B0-95C2-84EF6E5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A143-9101-4546-AE31-1FBED6C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8768-03EC-42F3-B8AC-FD541AB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0DAB-9EA7-47E2-B46C-96FF5D3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24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DD4-BBA0-49E2-A95A-093D89B270B1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457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a/Inflation-1923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19720" y="457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9.4 Wilson fights for Peac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495320" y="48006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The Treaty of Versailles and the League of Nations are crea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europe outline map"/>
          <p:cNvPicPr/>
          <p:nvPr/>
        </p:nvPicPr>
        <p:blipFill>
          <a:blip r:embed="rId1"/>
          <a:stretch/>
        </p:blipFill>
        <p:spPr>
          <a:xfrm>
            <a:off x="1328760" y="219240"/>
            <a:ext cx="6486480" cy="64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B996-8E09-4724-90AC-38AC6B2F94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Wilson’s “</a:t>
            </a:r>
            <a:r>
              <a:rPr b="0" i="1" lang="en-US" sz="4400" spc="-1" strike="noStrike">
                <a:solidFill>
                  <a:srgbClr val="336699"/>
                </a:solidFill>
                <a:latin typeface="Arial"/>
              </a:rPr>
              <a:t>14 Points”</a:t>
            </a:r>
            <a:br>
              <a:rPr sz="4400"/>
            </a:b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esident Wilson’s peace plan)</a:t>
            </a:r>
            <a:br>
              <a:rPr sz="2000"/>
            </a:b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.  1</a:t>
            </a:r>
            <a:r>
              <a:rPr b="0" lang="en-US" sz="2800" spc="-1" strike="noStrike" baseline="30000">
                <a:solidFill>
                  <a:srgbClr val="3366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five poin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ddressed causes of the w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pen agreem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reedom of se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wered tariff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duce ar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sider colonial subjects re: polic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2.  2</a:t>
            </a:r>
            <a:r>
              <a:rPr b="0" lang="en-US" sz="28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eight points addressed boundary changes/ethn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3.  14</a:t>
            </a:r>
            <a:r>
              <a:rPr b="0" lang="en-US" sz="28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poi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League of Nations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714D-2F93-49C5-B640-70F797B013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Big Four”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This photograph shows the Big Four"/>
          <p:cNvPicPr/>
          <p:nvPr/>
        </p:nvPicPr>
        <p:blipFill>
          <a:blip r:embed="rId1"/>
          <a:stretch/>
        </p:blipFill>
        <p:spPr>
          <a:xfrm>
            <a:off x="2819520" y="1295280"/>
            <a:ext cx="56386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CB1E-5C2A-42D8-87C3-833EB6DF9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1" name="" descr="Versailles The Hall of Mirrors ( La Galerie des Glaces )"/>
          <p:cNvPicPr/>
          <p:nvPr/>
        </p:nvPicPr>
        <p:blipFill>
          <a:blip r:embed="rId1"/>
          <a:stretch/>
        </p:blipFill>
        <p:spPr>
          <a:xfrm>
            <a:off x="4572000" y="3048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686480" cy="3441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E044-009E-4238-AC7C-FEFB03112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stablished 9 new nations including Pola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militarized Germany; reduced military force to 100,00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ermany to pay reparations (war damages) $33B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4.  war-guilt claus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ermany held responsible for WWI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1E9A-FC04-4335-9EF5-0E3E68011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Problems with the Treaty = WWII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ermans felt they were treated unfairly; reparations unrealisti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ussia not included in treaty; fought for 3 yrs; lost more territory than Germa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3.  Colonial territories wanted independence; Germany’s colonies stripped in Pacifi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FFD9-2DCD-40F5-9A0B-467F1B2CEB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Opposition to Treaty </a:t>
            </a:r>
            <a:br>
              <a:rPr sz="4400"/>
            </a:b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at Hom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.  League of Nations (LN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elt it would involve US in foreign wa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S would have to form foreign policy based on LN membership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2. Senate never ratifies treaty or becomes a member of the L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BB87-049D-403A-A8CE-29F709621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The War’s Legacy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ermans never knew they lost war due to censorshi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conomic collapse; Germany’s currency had no valu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itler emerging as a leader; blames Jews for Germany’s situ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mericans want to stay out of foreign affai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Image:Inflation-19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447920"/>
            <a:ext cx="3432240" cy="4687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0CBC-3C19-4FFB-A9ED-D32F91F97A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europe"/>
          <p:cNvPicPr/>
          <p:nvPr/>
        </p:nvPicPr>
        <p:blipFill>
          <a:blip r:embed="rId1"/>
          <a:stretch/>
        </p:blipFill>
        <p:spPr>
          <a:xfrm>
            <a:off x="2286000" y="838080"/>
            <a:ext cx="6191280" cy="547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FB08-44FA-4252-9BFE-E0C402EC2E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06:24:13Z</dcterms:created>
  <dc:creator>School District U46</dc:creator>
  <dc:description/>
  <dc:language>en-US</dc:language>
  <cp:lastModifiedBy>School District U46</cp:lastModifiedBy>
  <dcterms:modified xsi:type="dcterms:W3CDTF">2010-11-17T16:17:14Z</dcterms:modified>
  <cp:revision>7</cp:revision>
  <dc:subject/>
  <dc:title>11.4 Wilson fights for Peace</dc:title>
</cp:coreProperties>
</file>